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F3F-DF9F-41F0-9715-FDEA0C76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53C-3F2F-4D2D-B7CD-D1CDA33B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657B-9357-4DDD-A5A9-67E45368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78A-36C4-428E-881E-7A261E32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CAF-01AF-4140-B391-E610D3C0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FC2-AF3B-417A-9DEA-87AACFEE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619-422E-48A0-AEE4-81507906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7F5-6C31-4F3A-8551-DF152515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BC5-D868-4F35-B0FD-B270F66D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5A1-8946-48A3-B837-93AF87FF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00F-C6ED-4736-8F58-A6F1856F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DF3-D08C-4EA3-AF40-F37F4EE2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C52D-A2C9-4854-B88A-E0D902C7A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ÁLVUL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cánica de Flu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an Andrés Sandoval Herr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vula de Compu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5052960" cy="439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21160" y="1557360"/>
            <a:ext cx="38228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vula de Glo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6000" y="1668600"/>
            <a:ext cx="4932360" cy="4932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08720" y="2637000"/>
            <a:ext cx="36352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5640" y="2792520"/>
            <a:ext cx="3456000" cy="229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2336760"/>
            <a:ext cx="3289320" cy="2828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vula de Marip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vula de Áng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2076480" cy="219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03640" y="1649520"/>
            <a:ext cx="504036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vula de Ver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260440" cy="2098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348000" y="1916280"/>
            <a:ext cx="48578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1:49:09Z</dcterms:created>
  <dc:creator>Juan</dc:creator>
  <dc:description/>
  <dc:language>en-US</dc:language>
  <cp:lastModifiedBy>Juan</cp:lastModifiedBy>
  <dcterms:modified xsi:type="dcterms:W3CDTF">2011-09-27T02:19:47Z</dcterms:modified>
  <cp:revision>5</cp:revision>
  <dc:subject/>
  <dc:title>VÁLVULAS</dc:title>
</cp:coreProperties>
</file>